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B53D-5048-485F-8D86-8F2E824B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202-3B87-42A6-BE1D-7D332AF5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103-9EAC-4A99-9760-5B63AB68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41A-CE61-40D3-862A-B0C79636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7DC42-B2F6-4203-9C20-796334C3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04FCD-05FB-4F7C-AB71-10F6137E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DD1AD-A131-4D32-AF26-A537E52F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1C8AF-2EE7-41F1-A8BA-B7A5505E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EEF30-427A-4F4A-A0E8-7DCA2198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5DF08-26C4-4E8D-A1C8-66666FD9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7841D-CE25-46EE-A429-9D172009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18F1-C11F-4A43-80CC-A7BA2415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5A1F2-20C6-42A5-9F88-4713EEFB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948DD-6F3E-46E0-86C4-73E8E975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A0C54-EBD1-46CB-94E2-58AA74E7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071B3-44C8-47DA-9C9C-FADECCBE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0A36F-10CF-427C-A028-75BE8AFD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D88E4-DA75-47E7-A77F-E06017FE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E556B-D47C-408F-9CEC-10C7131D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FFB1B-D680-4CBD-A759-05D857F2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D7CEB-0EA9-4D53-83B0-09B7319C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6895B-6480-4B12-8195-288C02B8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4BB-0059-477A-9A34-D6EA2E51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16001-B5DF-4201-A981-A1ACB1B1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8982F-E6B6-4FBE-B074-0DDC1A9D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B00FC-30C0-48B7-ACFC-5BA4F379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D588F-115E-470A-B957-291F804F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C7140-ADE7-4EB8-9EC8-D67FFA77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182B4-5364-4733-B378-929B72B1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2E857-13C5-4224-BA89-64C56B50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7C3A2B-0778-4729-9EF9-83CD6686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B7C3A1-BEFF-4AAB-81B3-A68DA6FA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2F4B92-A5D7-4E96-BD70-C17C7EE1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0F6-ECD7-4FB8-ABC7-9435AB69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63782B-DEC6-4CB8-9AA0-0809D631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24FE18-4DCC-4D98-9BB6-8CD7314F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0ADA65-B014-4044-974F-899FF1E5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713781-1031-40BD-914B-ED37A458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D30542-837B-4476-A04C-01262594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B92BF3-6D1C-447F-A5B5-D8353D7E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42D5EB-9D36-4E24-8878-A42AFE3C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77A0C9-4152-4D43-A655-563289C4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BBDB28-8F61-453A-88C6-99B9179F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F93-053F-4D3A-B728-6BFBC06D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5D6-D75D-4B0A-99F0-69E0F502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E29-506E-4357-9469-4B104212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13C-A9B6-4F8D-8D5D-38C55D2B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D1E0-7E8C-4AF0-B0A1-0DF6CE10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D126-1262-47EB-BF37-CDE6E6E143D4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CA37-0471-4059-8850-5D588CB4AF4F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5D5B-181A-42E3-8E03-091840869265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4E34-ED58-43CC-A807-B2F708FF110A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efac9"/>
                </a:solidFill>
                <a:latin typeface="Constantia"/>
              </a:rPr>
              <a:t>Por: Henry Pérez y Jesus Vigíl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1 Título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629040" y="456840"/>
            <a:ext cx="205740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efac9"/>
                </a:solidFill>
                <a:latin typeface="Constantia"/>
              </a:rPr>
              <a:t>Ubicacion</a:t>
            </a:r>
            <a:endParaRPr b="0" lang="en-US" sz="1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629040" y="1599840"/>
            <a:ext cx="2057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efac9"/>
                </a:solidFill>
                <a:latin typeface="Constantia"/>
              </a:rPr>
              <a:t>Se extiende desde Virú hasta Lambayeque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efac9"/>
                </a:solidFill>
                <a:latin typeface="Constantia"/>
              </a:rPr>
              <a:t>Su centro principal se ubica en La Libertad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8 Marcador de posición de imagen" descr="ubce2.gif"/>
          <p:cNvPicPr/>
          <p:nvPr/>
        </p:nvPicPr>
        <p:blipFill>
          <a:blip r:embed="rId1"/>
          <a:stretch/>
        </p:blipFill>
        <p:spPr>
          <a:xfrm>
            <a:off x="281160" y="1042920"/>
            <a:ext cx="555300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28760" y="1357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La cultura Cupisnique se desarrollo entre los años 1500 a. C. a 1000 a. 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Dividida en Pre-Cupisnique: Las ceramica estaban mal hechas( sin precisión, armonia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Cupisnique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Cupisnique Transitori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99680" y="1428480"/>
            <a:ext cx="828684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ffff"/>
                </a:solidFill>
                <a:latin typeface="Constantia"/>
              </a:rPr>
              <a:t>Se basa en la agricultura de maíz, frijoles, yuca y calabazas ,pesca y la actividad de recolección de marisco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ffff"/>
                </a:solidFill>
                <a:latin typeface="Constantia"/>
              </a:rPr>
              <a:t>Cultivaban  maní y usaban llamas para ganaderi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http://animalsneedkisses.files.wordpress.com/2009/01/llamas.jpg"/>
          <p:cNvPicPr/>
          <p:nvPr/>
        </p:nvPicPr>
        <p:blipFill>
          <a:blip r:embed="rId2"/>
          <a:stretch/>
        </p:blipFill>
        <p:spPr>
          <a:xfrm>
            <a:off x="5929200" y="3214800"/>
            <a:ext cx="2828880" cy="3281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http://www.mundosnaturales.com/wp-content/uploads/2008/05/mani.jpg"/>
          <p:cNvPicPr/>
          <p:nvPr/>
        </p:nvPicPr>
        <p:blipFill>
          <a:blip r:embed="rId3"/>
          <a:stretch/>
        </p:blipFill>
        <p:spPr>
          <a:xfrm>
            <a:off x="1071720" y="3286080"/>
            <a:ext cx="38574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ffff"/>
                </a:solidFill>
                <a:latin typeface="Constantia"/>
              </a:rPr>
              <a:t>Los Cupisniques creían en la vida después de la muerte, por esto enterraban a sus seres queridos y los rodeaban de artefactos para su uso en el más allá. Los pintaban de rojo, para darles vitalidad para la vida etern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ffff"/>
                </a:solidFill>
                <a:latin typeface="Constantia"/>
              </a:rPr>
              <a:t>Se clasificaban en elite sacerdotal , artesanos  y  el puebl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ffff"/>
                </a:solidFill>
                <a:latin typeface="Constantia"/>
              </a:rPr>
              <a:t>Sus dioses gobernaban a través de el sacerdot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629040" y="457200"/>
            <a:ext cx="2057400" cy="4716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efac9"/>
                </a:solidFill>
                <a:latin typeface="Constantia"/>
              </a:rPr>
              <a:t>Arquitectura</a:t>
            </a:r>
            <a:endParaRPr b="0" lang="en-US" sz="1800" spc="-1" strike="noStrike">
              <a:solidFill>
                <a:srgbClr val="f9f9f9"/>
              </a:solidFill>
              <a:latin typeface="Constantia"/>
            </a:endParaRPr>
          </a:p>
        </p:txBody>
      </p:sp>
      <p:grpSp>
        <p:nvGrpSpPr>
          <p:cNvPr id="186" name="8 Marcador de posición de imagen"/>
          <p:cNvGrpSpPr/>
          <p:nvPr/>
        </p:nvGrpSpPr>
        <p:grpSpPr>
          <a:xfrm>
            <a:off x="96840" y="317520"/>
            <a:ext cx="6589800" cy="6211800"/>
            <a:chOff x="96840" y="317520"/>
            <a:chExt cx="6589800" cy="6211800"/>
          </a:xfrm>
        </p:grpSpPr>
        <p:pic>
          <p:nvPicPr>
            <p:cNvPr id="187" name="8 Marcador de posición de imagen" descr=""/>
            <p:cNvPicPr/>
            <p:nvPr/>
          </p:nvPicPr>
          <p:blipFill>
            <a:blip r:embed="rId1"/>
            <a:stretch/>
          </p:blipFill>
          <p:spPr>
            <a:xfrm>
              <a:off x="96840" y="317520"/>
              <a:ext cx="6589800" cy="62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85840" y="500040"/>
              <a:ext cx="6215040" cy="58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643440" y="999720"/>
            <a:ext cx="20574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efac9"/>
                </a:solidFill>
                <a:latin typeface="Constantia"/>
              </a:rPr>
              <a:t>Emplearon mucho la piedra como su material principal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efac9"/>
                </a:solidFill>
                <a:latin typeface="Constantia"/>
              </a:rPr>
              <a:t>Entre las piedras semipreciosas emplearon la turquesa, cristal de cuarzo y opalino para hacer collares de cuentas esféricas o cilíndricas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efac9"/>
                </a:solidFill>
                <a:latin typeface="Constantia"/>
              </a:rPr>
              <a:t>Usaron huesos para hacer sus adornos y herramientas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efac9"/>
                </a:solidFill>
                <a:latin typeface="Constantia"/>
              </a:rPr>
              <a:t>Huaca de los Reyes y Poémape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efac9"/>
                </a:solidFill>
                <a:latin typeface="Constantia"/>
              </a:rPr>
              <a:t>Templos en forma de “U”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Picture 6" descr="http://www.edarentacar.com/imagenes/huacadelosreyesprin.gif"/>
          <p:cNvPicPr/>
          <p:nvPr/>
        </p:nvPicPr>
        <p:blipFill>
          <a:blip r:embed="rId2"/>
          <a:stretch/>
        </p:blipFill>
        <p:spPr>
          <a:xfrm>
            <a:off x="428760" y="571680"/>
            <a:ext cx="6072120" cy="5627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1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nstantia"/>
              </a:rPr>
              <a:t>En sus cerámicas se podía resaltar los labios o rebordes pronunciado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nstantia"/>
              </a:rPr>
              <a:t>Usaban color negro, marrón oscuro o rojo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nstantia"/>
              </a:rPr>
              <a:t>Su cerámica era parecida a la chavin y a la mochica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7 Marcador de contenido" descr="CUPISNIQUE.jpg"/>
          <p:cNvPicPr/>
          <p:nvPr/>
        </p:nvPicPr>
        <p:blipFill>
          <a:blip r:embed="rId2"/>
          <a:stretch/>
        </p:blipFill>
        <p:spPr>
          <a:xfrm>
            <a:off x="5249880" y="2300400"/>
            <a:ext cx="28573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22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ffff"/>
                </a:solidFill>
                <a:latin typeface="Constantia"/>
              </a:rPr>
              <a:t>Adoraban una divinidad con cuerpo humano y cabeza de felino y enterraban a sus muertos en tumbas junto con un abundante ajuar de lujo que comprendía vasos de cerámica y joya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http://www.gabrielbernat.es/peru/preinca/cultpreincaicas/formativo/CUPISNIQUE/esculc4.gif"/>
          <p:cNvPicPr/>
          <p:nvPr/>
        </p:nvPicPr>
        <p:blipFill>
          <a:blip r:embed="rId2"/>
          <a:stretch/>
        </p:blipFill>
        <p:spPr>
          <a:xfrm>
            <a:off x="642960" y="3643200"/>
            <a:ext cx="371484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22:15:26Z</dcterms:created>
  <dc:creator>pc</dc:creator>
  <dc:description/>
  <dc:language>en-US</dc:language>
  <cp:lastModifiedBy>pc</cp:lastModifiedBy>
  <dcterms:modified xsi:type="dcterms:W3CDTF">2009-11-10T03:09:53Z</dcterms:modified>
  <cp:revision>46</cp:revision>
  <dc:subject/>
  <dc:title>Cultura Cupisnique</dc:title>
</cp:coreProperties>
</file>